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9C6-42CF-4A77-BD80-73D6605E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2DF-4B70-4645-97D8-E590114F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77A-D43D-4244-97A0-6BB748D2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458-B814-4123-A5D2-E9E3E1C4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BD24-D7F3-428A-9938-55A6F000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F442-3D2B-4AC4-8309-6DCCC5F7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E46F-4771-4699-A629-1944AA64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CF1A-E1B2-447A-A0B4-129F20CA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A92E-95CA-4061-B28B-3105EACB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FBC4-0562-4C54-A047-4DE393C4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9A7B-E7C6-4582-946F-DBF3A23B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E5B-D450-4B35-86A8-20A9527B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24E2-BA2F-499C-8FF2-7727B70F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B873-8FA9-4938-A708-DBE6C2F9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1793-8C96-44A4-9EE6-7D933ED8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A91C-7167-44C7-BF5A-5E3E460B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4959-A1BC-4F1D-9F13-F212E519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D2A-DFCD-4A2E-A46A-B736221B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E2D-52C0-4F6A-92A0-55FC25AE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B35-45F1-4698-8C64-B9A00945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589-8315-4581-9BF8-B9686370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C66-B632-4434-B0A3-FB59E378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0C6-1886-4F27-87A1-15C14120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B4A-FBC2-4C46-8FD8-2A19D150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ttp://imagebase.davidniblack.com/main.php?g2_view=core.DownloadItem&amp;g2_itemId=3266&amp;g2_serialNumber=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9561-BA29-4853-A9DC-B24789768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http://imagebase.davidniblack.com/main.php?g2_view=core.DownloadItem&amp;g2_itemId=3266&amp;g2_serialNumber=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2"/>
          <p:cNvSpPr/>
          <p:nvPr/>
        </p:nvSpPr>
        <p:spPr>
          <a:xfrm>
            <a:off x="6336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506E-0BFF-4437-B4F2-888833EFA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13 – Phase Chang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ges 401-40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entation by Sam O’Connell and Alec Sny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6336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bli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hanging of solid to gas/vapor without passing through liquid state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ccurs b/c solids have vapor pressure (like liquids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ccurs in solids w/ vapor pressures exceeding atmospheric pressure at/near room temp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odine, freeze-drying, dry ice, solid air freshener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Used to separate mixtures and purify compound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http://ts4.mm.bing.net/images/thumbnail.aspx?q=4973001432040087&amp;id=21e568149bdaed096800fa123716c328&amp;url=http%3a%2f%2fwww.chemistryland.com%2fCHM130FieldLab%2fLab4%2fiodine-sublimation-8crop.jpg"/>
          <p:cNvPicPr/>
          <p:nvPr/>
        </p:nvPicPr>
        <p:blipFill>
          <a:blip r:embed="rId1"/>
          <a:stretch/>
        </p:blipFill>
        <p:spPr>
          <a:xfrm>
            <a:off x="6362640" y="2362320"/>
            <a:ext cx="2476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ase Dia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raph representing solid, liquid, and vapor states’ relationship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ives conditions (temp., pressure) for existence of solids, liquids, and vapo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ditions where two phases exists at perfect balance (equilibrium) indicated by line separating phas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riple point – set of conditions that all three phases can exist at equilibrium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ritical Point – critical/maximum conditions substance can exist as liqui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ase Diagrams Characteris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crease in pressure → Lower boiling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crease in pressure → Higher melting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pressure → Higher boiling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pressure → Lower melting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2" descr="http://t3.gstatic.com/images?q=tbn:ANd9GcTCCmdoxTK0VS4ETxAtI6r92N_kGSObvW5B0Pj1-xgzT3YYfihtGQ"/>
          <p:cNvPicPr/>
          <p:nvPr/>
        </p:nvPicPr>
        <p:blipFill>
          <a:blip r:embed="rId1"/>
          <a:stretch/>
        </p:blipFill>
        <p:spPr>
          <a:xfrm>
            <a:off x="3581280" y="4114800"/>
            <a:ext cx="18860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preting Triple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low triple point → no vapor, liquid equilibri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ing pressure doesn’t change vapor to liqui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pressure → vapor behaves more like solid (not as easily compresse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ter Phase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boomeria.org/chemlectures/textass2/fig17-9.jpg"/>
          <p:cNvPicPr/>
          <p:nvPr/>
        </p:nvPicPr>
        <p:blipFill>
          <a:blip r:embed="rId2"/>
          <a:stretch/>
        </p:blipFill>
        <p:spPr>
          <a:xfrm>
            <a:off x="1371600" y="1214280"/>
            <a:ext cx="64008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ive Answ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1. Sublimation is the changing of a solid to a vapor without passing through the liquid state. It occurs because solids have vapor pressures, just like liquids d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2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http://www.nvsd44.bc.ca/sites/img/2/2-470-27984.jpg"/>
          <p:cNvPicPr/>
          <p:nvPr/>
        </p:nvPicPr>
        <p:blipFill>
          <a:blip r:embed="rId1"/>
          <a:stretch/>
        </p:blipFill>
        <p:spPr>
          <a:xfrm>
            <a:off x="2895480" y="3809880"/>
            <a:ext cx="33339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ive Answ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3. The triple point describes the only set of conditions at which all three phases (solid, liquid, and gas/vapor) can coexist at equilibrium with one another. The critical point indicates the critical conditions (temperature and pressure) above which a substance can’t exist as a liquid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4. The lines on a phase diagram show the equilibrium borders/trends for substances per state of matter (solid-liquid, liquid-vapor, solid-vapor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7:52:40Z</dcterms:created>
  <dc:creator>14asnyder</dc:creator>
  <dc:description/>
  <dc:language>en-US</dc:language>
  <cp:lastModifiedBy>udsd</cp:lastModifiedBy>
  <dcterms:modified xsi:type="dcterms:W3CDTF">2012-04-27T14:24:23Z</dcterms:modified>
  <cp:revision>13</cp:revision>
  <dc:subject/>
  <dc:title>Chapter 13 – Phase Change</dc:title>
</cp:coreProperties>
</file>